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4B1E-9677-4260-ABA6-2796F6E3099A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50 млн. лева за ОП НОИР (от 800 млн. от ЕС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92AF-5525-43A2-B132-AE616AD07CB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BED-7134-4208-AB10-2E03D9E8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F96-7B5C-45FC-B56C-4BD741D7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CCC-8245-4AB7-87FF-1EE5A770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ADF-34CB-438F-9CCF-B2C35D11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0FA7-5D6E-4ECA-BD61-CE52582C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D5D8-2352-42BE-AF0C-C0B2C28C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DBBE-558C-42FC-B3EF-EF18ABE9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D519-01C3-4BC9-8058-4CA30890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B3D5-E031-4A6E-A23A-A3D29AC6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584A-C177-4702-9C98-DC34F9C3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1259-F847-4E10-B6CF-362C8A1A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7F1-43A7-4D7A-A825-6B1A8AE9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11B4-D46C-4BDA-B579-722BCD83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9A3A-E227-41F9-B6C7-EA7A5C9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B418-782B-4DB9-B058-7E697B52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16E6-430C-4652-9431-97576134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4C87-41DF-4CB4-8D69-FF4E137C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A9FF-FE75-4981-ACCF-F090259A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E219-6ED3-4AC7-9B2E-0E64E2AD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0963-25AF-4FDD-859F-3770F9EF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B229-0E1D-443A-895C-9AE97671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C526-4F36-4BC1-9447-6781B4AF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ED9-DE10-4F7E-BFF0-6136959F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DBC3E-89A8-421F-B000-B139BC78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99B24-295A-4D89-BA40-278DF03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3967-9CD3-41ED-AA2F-03CE9464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1C6F-7936-457C-9C6E-FBF5F225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0BC0-BA6A-4850-BA0C-57C5A643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DD6DF-4491-4FC0-8DA0-9418DD66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75C5A-3FC1-4270-96B9-8EAEF314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9B26C-2F66-4246-AD56-23004F7A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64826-B093-4861-90DC-ECD68E03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57031-9E3E-4885-87A5-29858C5F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310-AD56-4CFD-AB6E-C968A035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880D-2663-4DA7-92D5-6BCE995A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1EA7D-BAFA-4729-8E53-EA3A587D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539E8-FAD0-4681-96A1-7EDA0F66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054C5-2D12-4324-9C58-A3BCEFE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B4C58-3431-49B2-97D5-C8B4AAF2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59220-5647-4579-B35D-FBD61F1B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16A52-7B86-4DF8-81C3-8AB5FEB1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B4E15-42B9-4640-8207-D9497E99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E638-92EA-4EDF-8E4B-1308A564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F0598-F3EE-44B0-BAE4-A9BAD021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A5B-9880-4EBD-BC48-3D437A57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A47ED-3F20-46FE-B48B-928D0468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620B-4AC5-4F2D-9643-C6986546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116E8-25F2-438E-A170-01124A46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E6880-5115-4578-BFA2-E1128537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49686-6C48-4366-9314-586B9264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EF9C7-E629-4DBF-9AF3-5B83F4F1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4F179-750C-4C79-B55C-DD86E833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51CAB-315B-4288-89A6-890D681D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6E4D6-0F54-4C22-8C2F-E62CEAB6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85CCC-A850-4C63-B27B-79469C91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090-31A6-44F8-BB0C-285432FC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2AA6C-864E-4306-A307-44468A0F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0C6BB-2C6F-4E77-8341-918B67D7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8CCAB-48D1-459A-B3DB-8AC71EB8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C0F7-DE9C-404B-953F-E6DDBE22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FC489-01B8-44EB-8A35-2371BDDB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B1E43-7F94-4003-BBA5-D3B3812C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78B96-A334-401C-87AB-63679263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4E0F7-64FC-4E03-A7FE-AAE206E7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16319-1CD1-4C1B-8FA9-A4E3AE4D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F651A-B08D-4533-AFC1-5EEECB53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0E3-CD59-4C2B-AFA7-172E2BE6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758CF-DF09-4FB9-B7CD-F62AC0EF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24B47-3620-4318-887A-4BE4D236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48B82-A260-4ADA-972B-D12728B5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49B36-AB38-466C-82FF-1F068BC9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E5BB1-CE7D-4F2B-9E15-989EFF9A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E6FF6-1B4B-4C76-9257-DE9003E8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64322-FF13-4C51-AE58-95EE7C0A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AF62F-D778-4243-A3A1-111D43B3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91251-EB2A-4F1F-8834-2907BAF5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8F900-2C8C-43ED-AC5A-3AFF8B3D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8BD-1ED5-43B7-A2A9-4AB82C11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DEF76-5787-49ED-856D-18446EF1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7BAC3-4AD0-4AAC-9371-A4BB45DA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FC3FE-A217-42EA-808F-8FE0D617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C25E5-9478-4C22-97B3-5F59394A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7EA02-DFF9-4817-AAD4-B695B3EB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B6A-448D-40BE-881E-F5D94E3D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A64F-60CF-40EF-92D1-97D36318C5C1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B70E-E9B3-4471-BEFA-1003217A5611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C649-1B82-4B65-BF7F-95C6C23B2683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578A-0862-45E4-983E-886F1B243AAC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C363-3F69-4DC8-A9A3-A85FBF186B67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A922-8A39-4390-9761-E9BC739C0191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13F1-F14F-41A8-A789-4F3F88623B19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Цели, приоритети и мерки в областта на образованието, науката и изследванията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2014 – 2020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3933360"/>
            <a:ext cx="7407000" cy="2374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20e04"/>
                </a:solidFill>
                <a:latin typeface="Corbel"/>
              </a:rPr>
              <a:t>Заседание на Съвета за координация при управлението на средствата от ЕС</a:t>
            </a: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16.10.2012 г., М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Добромир Добрев, СУ “Св. Климент Охридски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Член на работната група за подготовка на договора за партньорство 2014-202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797960" cy="48229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Content Placeholder 7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7821720" cy="48099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851960" cy="48099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Content Placeholder 7" descr=""/>
          <p:cNvPicPr/>
          <p:nvPr/>
        </p:nvPicPr>
        <p:blipFill>
          <a:blip r:embed="rId1"/>
          <a:stretch/>
        </p:blipFill>
        <p:spPr>
          <a:xfrm>
            <a:off x="1347840" y="1444680"/>
            <a:ext cx="7753320" cy="48229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инистерство на образованието, младежта и науката (МОМН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аучни и академични организации 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учебни завед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оциално-икономически партньори, работодатели, браншов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центрове за професионално обуче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общин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еправителствени организаци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вънучилищни педагогическ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ладежк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портни клубове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узеи и библиоте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професионално образование и обучение (НАП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оценяване и акредитация (НАОА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център "Европейски младежки програми и инициативи" (НЦЕМП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образователна интеграция на децата и учениците от етническите малцинства (ЦОИДУЕМ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контрол и оценка на качеството на училищното  образование (ЦКОКУ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информационно осигуряване на образованието (ЦИ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т за развитие на човешките ресурси (ЦРЧ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институт за обучение и квалификация в системата на образованието (НИОКСО) и др. второстепенни разпоредители към МОМН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580760"/>
            <a:ext cx="74995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Изграждане на центрове за компетентност (Centers of Excellence) в приоритетни научни области и от интерес за Европ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Масова дигитализация на научно, културно-историческо и документално съдържа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офесионалното образование, ориентирано към ефективен достъп до пазара на труд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практики 202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едучилищни и Училищни програми за подобряване на достъпа и задържане на ученицит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 – 2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9220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Общински програми за личностно развит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Учениче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4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и докторант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еконструкция, ремонт и строителство на детски градини и училищ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азширяване на прилагането на съвременните технологии в образователния процес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правленски опит по изпълнението на следните функции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Междинно звено по ОП РЧР 2007 – 2013 по Приоритетна ос 3 “Подобряване качеството на образованието и обучението в съответствие с потребностите на пазара на труда за изграждане на икономика, основана на знанието” и Приоритетна ос 4 “Подобряване достъпа до образование и обучение”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бщ бюджет за ПО 3 и ПО 4 </a:t>
            </a:r>
            <a:r>
              <a:rPr b="1" lang="ru-RU" sz="2200" spc="-1" strike="noStrike">
                <a:solidFill>
                  <a:srgbClr val="320e04"/>
                </a:solidFill>
                <a:latin typeface="Corbel"/>
              </a:rPr>
              <a:t>– 854 684 111 лв.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(36% от бюджета на ОП РЧР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исок ръст на привлечени европейски средства и нисък дял на грешки (0,2 % при средно около 2 % за всички останали ОП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 – 2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Звено за изпълнение на проекти по Програма ФАР (до м. август 2009 г.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пълнителна агенция по първия Меморандум за сътрудничество на България 2004-2009 със страните донори на Финансовия механизъм на Европейското икономическо пространств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ограмен оператор по програма, одобрена съгласно Меморандума 2009-2014 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дминистративен капацитет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90 служители, разделени в 7 отдел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опитът на служителите като част от Междинното звено по ОП РЧР  е подходяща основа за ефективно управление на новата Оперативна програм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72314"/>
                </a:solidFill>
                <a:latin typeface="Corbel"/>
              </a:rPr>
              <a:t>Съдържа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Актуално състояние на образованието 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и науката 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в Българ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Основни предпоставки за създаване на О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еративна програма “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Наука и образование за интелигентен растеж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” (ОП НОИР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Стратегическа и специфични цел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Тематична и структурна рамка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риоритетни оси и мерк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g-BG" sz="4000" spc="-1" strike="noStrike">
                <a:solidFill>
                  <a:srgbClr val="572314"/>
                </a:solidFill>
                <a:latin typeface="Corbel"/>
              </a:rPr>
              <a:t>БЛАГОДАРЯ ВИ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Оперативна програма “Наука и образование за интелигентен растеж 2014-2020” (ОП НОИ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59920"/>
            <a:ext cx="7499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бразователна структура на населениет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Паралел между актуалното състояние и заложените национални цели в Националната програма за реформи (2012-2020)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47640" y="2205000"/>
          <a:ext cx="7345440" cy="4114800"/>
        </p:xfrm>
        <a:graphic>
          <a:graphicData uri="http://schemas.openxmlformats.org/drawingml/2006/table">
            <a:tbl>
              <a:tblPr/>
              <a:tblGrid>
                <a:gridCol w="2087640"/>
                <a:gridCol w="2503440"/>
                <a:gridCol w="27543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ктуално съ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 данни за 2011 г. от: Наблюдение на работната сила, 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ционални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аложени за 2020 г. в „Националната програма за реформи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преждевременно напусналите образование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8 - 2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завършилите висше образ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30–3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,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72314"/>
                </a:solidFill>
                <a:latin typeface="Corbel"/>
              </a:rPr>
              <a:t>Мястото на България в класацията на конкурентоспособност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България заем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62-р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 от 144 страни за периода 2012-2013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В предишното издание на класацията България е заемал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74-т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Класацията е изготвена според 12 показателя, като България заема следните места п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здраве и основно образование - 49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висше образование и обучение – 63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начално образование - 67-м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иновации- 97-мо място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Corbel"/>
              </a:rPr>
              <a:t>Източник: Доклад за глобална конкурентоспособност 2012 - 2013 на Световния икономически форум (World Economic Forum), публикуван официално на 5 септември 2012 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и предпоставки в сферата на образованието, науката и изследвания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518840"/>
            <a:ext cx="75297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Програмиране за новия програмен период – 2014-2020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Актуални изисквания на нормативната уредба на ниво ЕС – проекти на регламенти: Общ регламент, Регламент на ЕСФ, Регламент на ЕФРР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Други европейски документи – стратегия на Съюза за интелигентен, устойчив и приобщаващ растеж „Европа 2020”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Национални стратегически и секторни документи, свързани с програмен период 2014 – 2020 г. – Национална програма за развитие 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“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България 2020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”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, Национална програма за реформи (2012 – 2020 г.), Конвергентна програма за развитие (2012 – 2020 г</a:t>
            </a:r>
            <a:r>
              <a:rPr b="1" lang="ru-RU" sz="1600" spc="-1" strike="noStrike">
                <a:solidFill>
                  <a:srgbClr val="320e04"/>
                </a:solidFill>
                <a:latin typeface="Corbel"/>
              </a:rPr>
              <a:t>.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), рамкови стратегически документи в сферата на общото, професионалното и висшето образование, научните изследвания, ученето през целия живот, образователната интеграция, младежта и др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Междинните резултати от настоящия програмен период 2007-2013 г. – анализи и оценки на отделни оперативни програми, както и на Националната стратегическа референтна рамка (която ще бъде заменена с договора за партньорство за периода 2014-2020 г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0" name="Elbow Connector 24"/>
          <p:cNvCxnSpPr>
            <a:stCxn id="341" idx="4"/>
            <a:endCxn id="342" idx="3"/>
          </p:cNvCxnSpPr>
          <p:nvPr/>
        </p:nvCxnSpPr>
        <p:spPr>
          <a:xfrm rot="5400000">
            <a:off x="5270400" y="2969280"/>
            <a:ext cx="2593440" cy="36554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Elbow Connector 24"/>
          <p:cNvCxnSpPr/>
          <p:nvPr/>
        </p:nvCxnSpPr>
        <p:spPr>
          <a:xfrm rot="5400000">
            <a:off x="6741000" y="4355280"/>
            <a:ext cx="2580480" cy="7275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Oval 4"/>
          <p:cNvSpPr/>
          <p:nvPr/>
        </p:nvSpPr>
        <p:spPr>
          <a:xfrm>
            <a:off x="1835280" y="260280"/>
            <a:ext cx="6697440" cy="1656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ОСНОВНА Ц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rbel"/>
              </a:rPr>
              <a:t>Постигане на интелигентен растеж и изграждане на общество, базирано на знанието, чрез повишаване качеството  на научните изследвания и образова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97164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3076560" y="2146320"/>
            <a:ext cx="2087640" cy="1368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520380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7350120" y="2133720"/>
            <a:ext cx="208908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658800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3: Образователна среда за активно социално приобща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</a:t>
            </a: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92436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2: Образование за реална заетост, мобилност и предприем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1258920" y="3789360"/>
            <a:ext cx="244944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1: Научни изследвания и технологич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2292480" y="5386320"/>
            <a:ext cx="244764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4: Насърчаване на образованието, уменията и ученето през целия 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5219640" y="5373720"/>
            <a:ext cx="244800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O 5: </a:t>
            </a: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Образовател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Elbow Connector 35"/>
          <p:cNvCxnSpPr>
            <a:stCxn id="347" idx="5"/>
            <a:endCxn id="348" idx="0"/>
          </p:cNvCxnSpPr>
          <p:nvPr/>
        </p:nvCxnSpPr>
        <p:spPr>
          <a:xfrm flipH="1" rot="16200000">
            <a:off x="7153200" y="3131280"/>
            <a:ext cx="489600" cy="827640"/>
          </a:xfrm>
          <a:prstGeom prst="bentConnector3">
            <a:avLst>
              <a:gd name="adj1" fmla="val 5298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Straight Arrow Connector 56"/>
          <p:cNvCxnSpPr>
            <a:stCxn id="346" idx="4"/>
            <a:endCxn id="349" idx="0"/>
          </p:cNvCxnSpPr>
          <p:nvPr/>
        </p:nvCxnSpPr>
        <p:spPr>
          <a:xfrm>
            <a:off x="4120920" y="3514320"/>
            <a:ext cx="102780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59"/>
          <p:cNvCxnSpPr>
            <a:stCxn id="345" idx="4"/>
            <a:endCxn id="350" idx="0"/>
          </p:cNvCxnSpPr>
          <p:nvPr/>
        </p:nvCxnSpPr>
        <p:spPr>
          <a:xfrm>
            <a:off x="2015640" y="3499920"/>
            <a:ext cx="469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2"/>
          <p:cNvCxnSpPr>
            <a:stCxn id="344" idx="4"/>
            <a:endCxn id="345" idx="0"/>
          </p:cNvCxnSpPr>
          <p:nvPr/>
        </p:nvCxnSpPr>
        <p:spPr>
          <a:xfrm flipH="1">
            <a:off x="2015640" y="1916280"/>
            <a:ext cx="31694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6"/>
          <p:cNvCxnSpPr>
            <a:stCxn id="344" idx="4"/>
            <a:endCxn id="346" idx="0"/>
          </p:cNvCxnSpPr>
          <p:nvPr/>
        </p:nvCxnSpPr>
        <p:spPr>
          <a:xfrm flipH="1">
            <a:off x="4120920" y="1915920"/>
            <a:ext cx="10641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9"/>
          <p:cNvCxnSpPr>
            <a:stCxn id="344" idx="4"/>
            <a:endCxn id="347" idx="0"/>
          </p:cNvCxnSpPr>
          <p:nvPr/>
        </p:nvCxnSpPr>
        <p:spPr>
          <a:xfrm>
            <a:off x="5184360" y="1916280"/>
            <a:ext cx="1064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72"/>
          <p:cNvCxnSpPr>
            <a:stCxn id="344" idx="4"/>
            <a:endCxn id="341" idx="0"/>
          </p:cNvCxnSpPr>
          <p:nvPr/>
        </p:nvCxnSpPr>
        <p:spPr>
          <a:xfrm>
            <a:off x="5184360" y="1916280"/>
            <a:ext cx="32108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зграждане на конкурентна среда за качествени научни и иновативни изследвания чрез постепенно повишаване на средствата за научно-изследователска и иновационна дейност до 1,5 % от БВП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благоприятна среда за възпроизводство и развитие на капацитета на научния сект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висшето образование и повишаване броя на завършилите висше образование във възрастовата група на 30-34-годишните до 36% 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440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предучилищното и на училищното образование и намаляване на дела на преждевременно напусналите образователната система до 11 %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условия за развитие на личностни и професионални знания и умения през целия живо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Развитие и модернизиране на научната и на образователната инфраструктура и повишаване броя на заетите в модернизирана сред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Content Placeholder 7" descr=""/>
          <p:cNvPicPr/>
          <p:nvPr/>
        </p:nvPicPr>
        <p:blipFill>
          <a:blip r:embed="rId1"/>
          <a:stretch/>
        </p:blipFill>
        <p:spPr>
          <a:xfrm>
            <a:off x="1322280" y="1444680"/>
            <a:ext cx="7742520" cy="48229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40:36Z</dcterms:created>
  <dc:creator>Dobri Business</dc:creator>
  <dc:description/>
  <dc:language>en-US</dc:language>
  <cp:lastModifiedBy>Dobri Business</cp:lastModifiedBy>
  <dcterms:modified xsi:type="dcterms:W3CDTF">2012-10-15T13:05:04Z</dcterms:modified>
  <cp:revision>82</cp:revision>
  <dc:subject/>
  <dc:title>Концепция за мерките в областта на образованието, науката и изследванията за програмния период 2014 – 2020</dc:title>
</cp:coreProperties>
</file>