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31C6-98ED-432D-89BE-57E3B8F59642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250 млн. лева за ОП НОИР (от 800 млн. от ЕС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7A3A-07CD-4D91-AC3C-E1915E4C2B53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8BC-6B1F-4B3F-A98D-DBF44681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3CC1-9528-4A43-B509-64416B43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E31-AED8-49FC-804D-63C0FDA7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DD6-C445-478A-87AA-B423BC52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5BBF-BE66-407C-B38D-4F1ED1ED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7AAE-F72A-451F-9655-D64F126D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2B9D-1473-452B-A2DA-4A425246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23D0-8E19-49EB-A6C6-3A709968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991C-F06C-4A96-A120-8E141A74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AB3D-32E9-4EBF-A066-3145EAE7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FA42-BBC5-4B39-8A37-8A1C91B5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6A24-0FD6-4147-8250-28A987CD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1617-6B4B-4CE6-AD43-D7D9694B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DA4E-83AE-4031-9F61-4BE0CF14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D6B8-876E-477F-976A-A3D24F58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0ADF-2690-4379-B1E0-C3A839CB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C436-DFAA-49EB-A080-EC5E2DDB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1AB68-C2EE-4E29-8E64-2BACF432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32773-43EE-4446-A7BA-30A2667E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96211-D663-4ACE-940C-C11E62C0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453AB-9CB3-4519-B13D-930BD6C0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DD04E-295C-4C8A-8504-DED0BAC5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C88-43E6-4B3B-83F0-6DD08FDA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BBEDA-8531-464A-85CE-8EA3C6C3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84094-32D9-4AF3-9B95-A657E93E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AAD8E-D56A-4DEE-B690-7AB27751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FA0C7-C856-4D78-BB12-E08494EC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8C673-E686-4B21-9AF2-6683D5DF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918DB-2722-422B-A1F3-49780AB5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22B20-8CB7-4988-BACA-41889001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196C6-E980-4AE8-BFF1-F0BC8736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46C6C-97AC-4C0D-9ED9-B6375A58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51027-CBCF-41DC-811C-C3D03246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281-12ED-49C3-8F17-786D7572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497BC-4C8A-4C19-86C4-5D107520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9D908-28B9-4C9E-B30F-01281A6D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9FFE7-9F28-4985-B572-A6C707F9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332C2-EFC8-4553-A2FD-445B9D76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E1D21-7BB3-4F9B-800B-F942B45B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4D031-F62E-4B59-A737-9B512FCC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AE9E9-49FF-4C8F-AA37-8033AA7E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521E6-3366-437B-87F5-9E41CBCD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B8D0B-5216-4E3C-9B8C-7CA51E66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FE2FB-FE0D-4932-9568-9CED0D9B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2AA8-E979-468B-A60D-0FCEF65A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10468-D482-453B-8F57-A49A812B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BF173-FB48-433F-A541-FC3DF5DC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53A0A-838D-4972-A108-489D2E6F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3C3A8-73B8-40C4-A6DB-8A465625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3FB01-53ED-4D72-A616-159A8A64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6C4A6-CCB7-4E99-950A-5F311676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78F93-CE0E-4A7E-9226-732646BE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781E5-6DEA-4706-83E7-7FACBCAC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F8523-21F4-4129-A333-0CF35DBA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08B66-D52C-441D-B9B0-362E6CB5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8D9-78D3-4792-806A-90EF0F14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71C28-AEE6-4457-BA07-C538ADBF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4B152-8B27-46D5-B505-6681E4A2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0A172-607C-45F9-A4B1-360772DC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EF62F-55C9-4E87-B6E8-C2F0F236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D48EC-475B-41A6-8724-83C3249D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5ADEE-B9AB-4884-9EFB-42512375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0BF74-B6D6-4E5A-8C44-99751001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E60EF-E0D6-4230-BF42-0A372689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4CC09-1EC6-49AD-8B84-B7ECC462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17304-42D6-4721-8869-FE70695F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0A9C-0053-402B-A1EB-C4A30516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6B286-341C-42E2-96C4-118F57B8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44433-859E-41D0-A804-B1565638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663F9-76C6-4739-B3CE-4EABAA5A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EC887-E5D1-4FD9-944B-86DC31FF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BA6D2-BDAB-4825-869A-F632FB13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0A8B7-D72E-45E2-80B1-9F3F1AD3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80C6A-DCE9-4E5C-A3CA-3046D164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9FF42-42AC-463B-88D0-52301E78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91BFB-9C59-4CCA-A12C-41E4D25F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BFC48-C552-4817-A7B2-9F0E073B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082A-32A3-4A8F-92C1-E44671E2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D8D2F-5D88-4BFF-B240-3ABDF2FB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0F382-2150-4932-B170-AF5BFD01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26763-BF0C-47E6-807D-7501DC0C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ACBF1-2ED1-408C-93CA-EAE4DBF8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49434-F3C1-48A0-9736-AF5A0E75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E402-3C0D-40BE-84B0-8A208D12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8EC4-99E8-41CC-B0B1-F1252181D5B0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4587-9C13-4B62-9E4C-C811F6EE419B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F8D7-FB0F-4472-A1C2-CB2406A6D5D5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412F-0516-4426-A83D-CA1524FA59E6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B51A-2B2E-4FBD-9427-C24C157FB1F4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CFC9-5DA9-4F28-9536-AB44D6B1F388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1AC2-CC61-4870-B343-E779BE87C68D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Цели, приоритети и мерки в областта на образованието, науката и изследванията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2014 – 2020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3933360"/>
            <a:ext cx="7407000" cy="2374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20e04"/>
                </a:solidFill>
                <a:latin typeface="Corbel"/>
              </a:rPr>
              <a:t>Заседание на Съвета за координация при управлението на средствата от ЕС</a:t>
            </a: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16.10.2012 г., МС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Добромир Добрев, СУ “Св. Климент Охридски”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Член на работната група за подготовка на договора за партньорство 2014-202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Content Placeholder 7" descr=""/>
          <p:cNvPicPr/>
          <p:nvPr/>
        </p:nvPicPr>
        <p:blipFill>
          <a:blip r:embed="rId1"/>
          <a:stretch/>
        </p:blipFill>
        <p:spPr>
          <a:xfrm>
            <a:off x="1279440" y="1444680"/>
            <a:ext cx="7797960" cy="48229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8"/>
          <p:cNvSpPr/>
          <p:nvPr/>
        </p:nvSpPr>
        <p:spPr>
          <a:xfrm>
            <a:off x="1476360" y="251784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Content Placeholder 7" descr=""/>
          <p:cNvPicPr/>
          <p:nvPr/>
        </p:nvPicPr>
        <p:blipFill>
          <a:blip r:embed="rId1"/>
          <a:stretch/>
        </p:blipFill>
        <p:spPr>
          <a:xfrm>
            <a:off x="1298520" y="1444680"/>
            <a:ext cx="7821720" cy="48099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8"/>
          <p:cNvSpPr/>
          <p:nvPr/>
        </p:nvSpPr>
        <p:spPr>
          <a:xfrm>
            <a:off x="1403280" y="256536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Content Placeholder 7" descr=""/>
          <p:cNvPicPr/>
          <p:nvPr/>
        </p:nvPicPr>
        <p:blipFill>
          <a:blip r:embed="rId1"/>
          <a:stretch/>
        </p:blipFill>
        <p:spPr>
          <a:xfrm>
            <a:off x="1279440" y="1444680"/>
            <a:ext cx="7851960" cy="4809960"/>
          </a:xfrm>
          <a:prstGeom prst="rect">
            <a:avLst/>
          </a:prstGeom>
          <a:ln w="0">
            <a:noFill/>
          </a:ln>
        </p:spPr>
      </p:pic>
      <p:sp>
        <p:nvSpPr>
          <p:cNvPr id="380" name="TextBox 8"/>
          <p:cNvSpPr/>
          <p:nvPr/>
        </p:nvSpPr>
        <p:spPr>
          <a:xfrm>
            <a:off x="1403280" y="256536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Content Placeholder 7" descr=""/>
          <p:cNvPicPr/>
          <p:nvPr/>
        </p:nvPicPr>
        <p:blipFill>
          <a:blip r:embed="rId1"/>
          <a:stretch/>
        </p:blipFill>
        <p:spPr>
          <a:xfrm>
            <a:off x="1347840" y="1444680"/>
            <a:ext cx="7753320" cy="4822920"/>
          </a:xfrm>
          <a:prstGeom prst="rect">
            <a:avLst/>
          </a:prstGeom>
          <a:ln w="0">
            <a:noFill/>
          </a:ln>
        </p:spPr>
      </p:pic>
      <p:sp>
        <p:nvSpPr>
          <p:cNvPr id="384" name="TextBox 8"/>
          <p:cNvSpPr/>
          <p:nvPr/>
        </p:nvSpPr>
        <p:spPr>
          <a:xfrm>
            <a:off x="1476360" y="251784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Бенефициент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Министерство на образованието, младежта и науката (МОМН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научни и академични организации и институ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учебни заведения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социално-икономически партньори, работодатели, браншови организа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центрове за професионално обучен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общин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неправителствени организации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извънучилищни педагогически институ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младежки организа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спортни клубове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музеи и библиотек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Бенефициенти – 2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34960" y="1447560"/>
            <a:ext cx="749952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на агенция за професионално образование и обучение (НАПОО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на агенция за оценяване и акредитация (НАОА)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ен център "Европейски младежки програми и инициативи" (НЦЕМПИ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р за образователна интеграция на децата и учениците от етническите малцинства (ЦОИДУЕМ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р за контрол и оценка на качеството на училищното  образование (ЦКОКУО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р за информационно осигуряване на образованието (ЦИОО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т за развитие на човешките ресурси (ЦРЧР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ен институт за обучение и квалификация в системата на образованието (НИОКСО) и др. второстепенни разпоредители към МОМН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Примерни предефинирани проект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1580760"/>
            <a:ext cx="749952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1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Изграждане на центрове за компетентност (Centers of Excellence) в приоритетни научни области и от интерес за Европ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1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Масова дигитализация на научно, културно-историческо и документално съдържан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2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Професионалното образование, ориентирано към ефективен достъп до пазара на труд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2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Студентски практики 2020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3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Предучилищни и Училищни програми за подобряване на достъпа и задържане на ученицит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мерни предефинирани проекти – 2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34960" y="1492200"/>
            <a:ext cx="749952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3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Общински програми за личностно развит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3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Ученически стипенд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4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Студентски и докторантски стипенд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5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Реконструкция, ремонт и строителство на детски градини и училищ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5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Разширяване на прилагането на съвременните технологии в образователния процес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189000"/>
            <a:ext cx="7499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Управленски опит и административен капацитет на Главна дирекция „Структурни фондове и международни образователни програми”</a:t>
            </a:r>
            <a:br>
              <a:rPr sz="1800"/>
            </a:b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(ГД СФМОП) към МОМН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Управленски опит по изпълнението на следните функции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Междинно звено по ОП РЧР 2007 – 2013 по Приоритетна ос 3 “Подобряване качеството на образованието и обучението в съответствие с потребностите на пазара на труда за изграждане на икономика, основана на знанието” и Приоритетна ос 4 “Подобряване достъпа до образование и обучение”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бщ бюджет за ПО 3 и ПО 4 </a:t>
            </a:r>
            <a:r>
              <a:rPr b="1" lang="ru-RU" sz="2200" spc="-1" strike="noStrike">
                <a:solidFill>
                  <a:srgbClr val="320e04"/>
                </a:solidFill>
                <a:latin typeface="Corbel"/>
              </a:rPr>
              <a:t>– 854 684 111 лв.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(36% от бюджета на ОП РЧР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исок ръст на привлечени европейски средства и нисък дял на грешки (0,2 % при средно около 2 % за всички останали ОП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189000"/>
            <a:ext cx="7499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Управленски опит и административен капацитет на Главна дирекция „Структурни фондове и международни образователни програми”</a:t>
            </a:r>
            <a:br>
              <a:rPr sz="1800"/>
            </a:b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(ГД СФМОП) към МОМН – 2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34960" y="1447560"/>
            <a:ext cx="74995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Звено за изпълнение на проекти по Програма ФАР (до м. август 2009 г.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Изпълнителна агенция по първия Меморандум за сътрудничество на България 2004-2009 със страните донори на Финансовия механизъм на Европейското икономическо пространств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ограмен оператор по програма, одобрена съгласно Меморандума 2009-2014 г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Административен капацитет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90 служители, разделени в 7 отдел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опитът на служителите като част от Междинното звено по ОП РЧР  е подходяща основа за ефективно управление на новата Оперативна програм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572314"/>
                </a:solidFill>
                <a:latin typeface="Corbel"/>
              </a:rPr>
              <a:t>Съдържание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585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Актуално състояние на образованието </a:t>
            </a: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и науката </a:t>
            </a: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в Българ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Основни предпоставки за създаване на О</a:t>
            </a: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перативна програма “</a:t>
            </a: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Наука и образование за интелигентен растеж</a:t>
            </a: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” (ОП НОИР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Стратегическа и специфични цели на ОП НОИР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Тематична и структурна рамка на ОП НОИР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Приоритетни оси и мерки на ОП НОИР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g-BG" sz="4000" spc="-1" strike="noStrike">
                <a:solidFill>
                  <a:srgbClr val="572314"/>
                </a:solidFill>
                <a:latin typeface="Corbel"/>
              </a:rPr>
              <a:t>БЛАГОДАРЯ ВИ!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 algn="just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Оперативна програма “Наука и образование за интелигентен растеж 2014-2020” (ОП НОИР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just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59920"/>
            <a:ext cx="7499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бразователна структура на населението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600" y="1447560"/>
            <a:ext cx="74581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Паралел между актуалното състояние и заложените национални цели в Националната програма за реформи (2012-2020)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547640" y="2205000"/>
          <a:ext cx="7345440" cy="4114800"/>
        </p:xfrm>
        <a:graphic>
          <a:graphicData uri="http://schemas.openxmlformats.org/drawingml/2006/table">
            <a:tbl>
              <a:tblPr/>
              <a:tblGrid>
                <a:gridCol w="2087640"/>
                <a:gridCol w="2503440"/>
                <a:gridCol w="275436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ктуално състо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 данни за 2011 г. от: Наблюдение на работната сила, Н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ационални ц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заложени за 2020 г. в „Националната програма за реформи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ял на преждевременно напусналите образованиет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18 - 24 годи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,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ял на завършилите висше образ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30–34 годи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3, 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72314"/>
                </a:solidFill>
                <a:latin typeface="Corbel"/>
              </a:rPr>
              <a:t>Мястото на България в класацията на конкурентоспособностт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600" y="1447560"/>
            <a:ext cx="74581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България заема </a:t>
            </a:r>
            <a:r>
              <a:rPr b="1" lang="bg-BG" sz="2000" spc="-1" strike="noStrike">
                <a:solidFill>
                  <a:srgbClr val="000000"/>
                </a:solidFill>
                <a:latin typeface="Corbel"/>
              </a:rPr>
              <a:t>62-ро място</a:t>
            </a: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 от 144 страни за периода 2012-2013 г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В предишното издание на класацията България е заемала </a:t>
            </a:r>
            <a:r>
              <a:rPr b="1" lang="bg-BG" sz="2000" spc="-1" strike="noStrike">
                <a:solidFill>
                  <a:srgbClr val="000000"/>
                </a:solidFill>
                <a:latin typeface="Corbel"/>
              </a:rPr>
              <a:t>74-то място</a:t>
            </a: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Класацията е изготвена според 12 показателя, като България заема следните места по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здраве и основно образование - 49-то място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висше образование и обучение – 63-то място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начално образование - 67-мо място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иновации- 97-мо място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Corbel"/>
              </a:rPr>
              <a:t>Източник: Доклад за глобална конкурентоспособност 2012 - 2013 на Световния икономически форум (World Economic Forum), публикуван официално на 5 септември 2012 г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сновни предпоставки в сферата на образованието, науката и изследваният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518840"/>
            <a:ext cx="752976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3297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Програмиране за новия програмен период – 2014-2020 г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0320" indent="-330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Актуални изисквания на нормативната уредба на ниво ЕС – проекти на регламенти: Общ регламент, Регламент на ЕСФ, Регламент на ЕФРР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70320" indent="-330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Други европейски документи – стратегия на Съюза за интелигентен, устойчив и приобщаващ растеж „Европа 2020”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70320" indent="-330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Национални стратегически и секторни документи, свързани с програмен период 2014 – 2020 г. – Национална програма за развитие </a:t>
            </a:r>
            <a:r>
              <a:rPr b="0" lang="bg-BG" sz="1600" spc="-1" strike="noStrike">
                <a:solidFill>
                  <a:srgbClr val="320e04"/>
                </a:solidFill>
                <a:latin typeface="Corbel"/>
              </a:rPr>
              <a:t>“</a:t>
            </a: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България 2020</a:t>
            </a:r>
            <a:r>
              <a:rPr b="0" lang="bg-BG" sz="1600" spc="-1" strike="noStrike">
                <a:solidFill>
                  <a:srgbClr val="320e04"/>
                </a:solidFill>
                <a:latin typeface="Corbel"/>
              </a:rPr>
              <a:t>”</a:t>
            </a: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, Национална програма за реформи (2012 – 2020 г.), Конвергентна програма за развитие (2012 – 2020 г</a:t>
            </a:r>
            <a:r>
              <a:rPr b="1" lang="ru-RU" sz="1600" spc="-1" strike="noStrike">
                <a:solidFill>
                  <a:srgbClr val="320e04"/>
                </a:solidFill>
                <a:latin typeface="Corbel"/>
              </a:rPr>
              <a:t>.</a:t>
            </a: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), рамкови стратегически документи в сферата на общото, професионалното и висшето образование, научните изследвания, ученето през целия живот, образователната интеграция, младежта и др.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5520" indent="-3297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Междинните резултати от настоящия програмен период 2007-2013 г. – анализи и оценки на отделни оперативни програми, както и на Националната стратегическа референтна рамка (която ще бъде заменена с договора за партньорство за периода 2014-2020 г.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40" name="Elbow Connector 24"/>
          <p:cNvCxnSpPr>
            <a:stCxn id="341" idx="4"/>
            <a:endCxn id="342" idx="3"/>
          </p:cNvCxnSpPr>
          <p:nvPr/>
        </p:nvCxnSpPr>
        <p:spPr>
          <a:xfrm rot="5400000">
            <a:off x="5270400" y="2969280"/>
            <a:ext cx="2593440" cy="36554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3" name="Elbow Connector 24"/>
          <p:cNvCxnSpPr/>
          <p:nvPr/>
        </p:nvCxnSpPr>
        <p:spPr>
          <a:xfrm rot="5400000">
            <a:off x="6741000" y="4355280"/>
            <a:ext cx="2580480" cy="7275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Oval 4"/>
          <p:cNvSpPr/>
          <p:nvPr/>
        </p:nvSpPr>
        <p:spPr>
          <a:xfrm>
            <a:off x="1835280" y="260280"/>
            <a:ext cx="6697440" cy="16560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Corbel"/>
              </a:rPr>
              <a:t>ОСНОВНА ЦЕ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rbel"/>
              </a:rPr>
              <a:t>Постигане на интелигентен растеж и изграждане на общество, базирано на знанието, чрез повишаване качеството  на научните изследвания и образовани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971640" y="2133720"/>
            <a:ext cx="2087640" cy="13665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7"/>
          <p:cNvSpPr/>
          <p:nvPr/>
        </p:nvSpPr>
        <p:spPr>
          <a:xfrm>
            <a:off x="3076560" y="2146320"/>
            <a:ext cx="2087640" cy="1368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8"/>
          <p:cNvSpPr/>
          <p:nvPr/>
        </p:nvSpPr>
        <p:spPr>
          <a:xfrm>
            <a:off x="5203800" y="2133720"/>
            <a:ext cx="2087640" cy="13665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7350120" y="2133720"/>
            <a:ext cx="2089080" cy="13665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"/>
          <p:cNvSpPr/>
          <p:nvPr/>
        </p:nvSpPr>
        <p:spPr>
          <a:xfrm>
            <a:off x="6588000" y="3789360"/>
            <a:ext cx="2448000" cy="1368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3: Образователна среда за активно социално приобща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</a:t>
            </a:r>
            <a:r>
              <a:rPr b="1" lang="bg-BG" sz="1800" spc="-1" strike="noStrike">
                <a:solidFill>
                  <a:srgbClr val="ffffff"/>
                </a:solidFill>
                <a:latin typeface="Corbel"/>
              </a:rPr>
              <a:t>С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3924360" y="3789360"/>
            <a:ext cx="2448000" cy="1368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2: Образование за реална заетост, мобилност и предприема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С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1258920" y="3789360"/>
            <a:ext cx="2449440" cy="1368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1: Научни изследвания и технологичн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Ф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6"/>
          <p:cNvSpPr/>
          <p:nvPr/>
        </p:nvSpPr>
        <p:spPr>
          <a:xfrm>
            <a:off x="2292480" y="5386320"/>
            <a:ext cx="2447640" cy="141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4: Насърчаване на образованието, уменията и ученето през целия жив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С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5219640" y="5373720"/>
            <a:ext cx="2448000" cy="141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orbe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O 5: </a:t>
            </a:r>
            <a:r>
              <a:rPr b="0" lang="bg-BG" sz="1800" spc="-1" strike="noStrike">
                <a:solidFill>
                  <a:srgbClr val="ffffff"/>
                </a:solidFill>
                <a:latin typeface="Corbel"/>
              </a:rPr>
              <a:t>Образователна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rbel"/>
              </a:rPr>
              <a:t>ЕФ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Elbow Connector 35"/>
          <p:cNvCxnSpPr>
            <a:stCxn id="347" idx="5"/>
            <a:endCxn id="348" idx="0"/>
          </p:cNvCxnSpPr>
          <p:nvPr/>
        </p:nvCxnSpPr>
        <p:spPr>
          <a:xfrm flipH="1" rot="16200000">
            <a:off x="7153200" y="3131280"/>
            <a:ext cx="489600" cy="827640"/>
          </a:xfrm>
          <a:prstGeom prst="bentConnector3">
            <a:avLst>
              <a:gd name="adj1" fmla="val 5298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Straight Arrow Connector 56"/>
          <p:cNvCxnSpPr>
            <a:stCxn id="346" idx="4"/>
            <a:endCxn id="349" idx="0"/>
          </p:cNvCxnSpPr>
          <p:nvPr/>
        </p:nvCxnSpPr>
        <p:spPr>
          <a:xfrm>
            <a:off x="4120920" y="3514320"/>
            <a:ext cx="1027800" cy="27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59"/>
          <p:cNvCxnSpPr>
            <a:stCxn id="345" idx="4"/>
            <a:endCxn id="350" idx="0"/>
          </p:cNvCxnSpPr>
          <p:nvPr/>
        </p:nvCxnSpPr>
        <p:spPr>
          <a:xfrm>
            <a:off x="2015640" y="3499920"/>
            <a:ext cx="469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Straight Arrow Connector 62"/>
          <p:cNvCxnSpPr>
            <a:stCxn id="344" idx="4"/>
            <a:endCxn id="345" idx="0"/>
          </p:cNvCxnSpPr>
          <p:nvPr/>
        </p:nvCxnSpPr>
        <p:spPr>
          <a:xfrm flipH="1">
            <a:off x="2015640" y="1916280"/>
            <a:ext cx="316944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Straight Arrow Connector 66"/>
          <p:cNvCxnSpPr>
            <a:stCxn id="344" idx="4"/>
            <a:endCxn id="346" idx="0"/>
          </p:cNvCxnSpPr>
          <p:nvPr/>
        </p:nvCxnSpPr>
        <p:spPr>
          <a:xfrm flipH="1">
            <a:off x="4120920" y="1915920"/>
            <a:ext cx="106416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69"/>
          <p:cNvCxnSpPr>
            <a:stCxn id="344" idx="4"/>
            <a:endCxn id="347" idx="0"/>
          </p:cNvCxnSpPr>
          <p:nvPr/>
        </p:nvCxnSpPr>
        <p:spPr>
          <a:xfrm>
            <a:off x="5184360" y="1916280"/>
            <a:ext cx="10645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Straight Arrow Connector 72"/>
          <p:cNvCxnSpPr>
            <a:stCxn id="344" idx="4"/>
            <a:endCxn id="341" idx="0"/>
          </p:cNvCxnSpPr>
          <p:nvPr/>
        </p:nvCxnSpPr>
        <p:spPr>
          <a:xfrm>
            <a:off x="5184360" y="1916280"/>
            <a:ext cx="321084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Специфични цели на ОП НОИР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920"/>
            <a:ext cx="7499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326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Специфични цел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Изграждане на конкурентна среда за качествени научни и иновативни изследвания чрез постепенно повишаване на средствата за научно-изследователска и иновационна дейност до 1,5 % от БВП към 2020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Създаване на благоприятна среда за възпроизводство и развитие на капацитета на научния секто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одобряване на качеството на висшето образование и повишаване броя на завършилите висше образование във възрастовата група на 30-34-годишните до 36%  към 2020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440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Специфични цели на ОП НОИР – 2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920"/>
            <a:ext cx="7499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33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Специфични цел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Corbe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одобряване на качеството на предучилищното и на училищното образование и намаляване на дела на преждевременно напусналите образователната система до 11 % към 2020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Corbe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Създаване на условия за развитие на личностни и професионални знания и умения през целия живо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Corbe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Развитие и модернизиране на научната и на образователната инфраструктура и повишаване броя на заетите в модернизирана сред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Content Placeholder 7" descr=""/>
          <p:cNvPicPr/>
          <p:nvPr/>
        </p:nvPicPr>
        <p:blipFill>
          <a:blip r:embed="rId1"/>
          <a:stretch/>
        </p:blipFill>
        <p:spPr>
          <a:xfrm>
            <a:off x="1322280" y="1444680"/>
            <a:ext cx="7742520" cy="48229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8"/>
          <p:cNvSpPr/>
          <p:nvPr/>
        </p:nvSpPr>
        <p:spPr>
          <a:xfrm>
            <a:off x="1476360" y="251784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4:40:36Z</dcterms:created>
  <dc:creator>Dobri Business</dc:creator>
  <dc:description/>
  <dc:language>en-US</dc:language>
  <cp:lastModifiedBy>Dobri Business</cp:lastModifiedBy>
  <dcterms:modified xsi:type="dcterms:W3CDTF">2012-10-15T13:05:04Z</dcterms:modified>
  <cp:revision>82</cp:revision>
  <dc:subject/>
  <dc:title>Концепция за мерките в областта на образованието, науката и изследванията за програмния период 2014 – 2020</dc:title>
</cp:coreProperties>
</file>