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DBC-5381-4646-8BDA-E44D32C0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51D-A50B-4740-9E2A-94EC5FBB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0F2-8AC5-45A2-ACEC-644D8BF6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286-F4BD-45E8-BA6D-A730B959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594-F3F8-417A-98F7-E2DF2FCA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FB8-0369-46A6-9AE8-D2DDB711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488-C770-4CB7-817F-3C251ADF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D2B-26AD-41DA-8DE8-A4306E25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1E7-9D4E-4F88-B0AE-81C2C88F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651-88C8-4A90-95A1-9020FD2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69B-0EC0-477A-8D94-09646060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5EA-934E-4FFF-A6B9-631D8E57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524-B1E4-4C1E-8C76-ACF4EC689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5589720"/>
            <a:ext cx="8353440" cy="1162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620640"/>
            <a:ext cx="5194440" cy="102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932000" y="5876640"/>
            <a:ext cx="3816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Декември 20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706400" cy="110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77080" y="320760"/>
            <a:ext cx="1727280" cy="94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Times New Roman"/>
              </a:rPr>
              <a:t>Н А С О К И </a:t>
            </a:r>
            <a:br>
              <a:rPr sz="2800"/>
            </a:b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ИНТЕГРИРАНЕ НА ПОЛИТИКИТЕ ПО ОКОЛНА СРЕДА И ИЗМЕНЕНИЕ НА КЛИМАТА ВЪВ ФОНДОВЕТЕ З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ПЕРИОДА 2014 – 2020 Г.</a:t>
            </a:r>
            <a:r>
              <a:rPr b="1" lang="bg-BG" sz="4000" spc="-1" strike="noStrike">
                <a:solidFill>
                  <a:srgbClr val="333399"/>
                </a:solidFill>
                <a:latin typeface="Cambri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Етап: Програмиране на фондовете към Общата стратегическ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ЕДВАРИТЕЛНИ УСЛОВИЯ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ъгласно чл. 17 от проекта на Общ регламент за всеки от фондовете по Общата стратегическа рамка се определят </a:t>
            </a:r>
            <a:r>
              <a:rPr b="1" lang="bg-BG" sz="2800" spc="-1" strike="noStrike" u="sng">
                <a:solidFill>
                  <a:srgbClr val="0070c0"/>
                </a:solidFill>
                <a:uFillTx/>
                <a:latin typeface="Times New Roman"/>
              </a:rPr>
              <a:t>предварителни условия, вкл. хоризонталните условности в областта на околната среда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Приложение IV към проек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Отговорник за изпълнение на условията по тематични цели 4, 5 и 6, както и на хоризонталното условие във връзка с ОВОС и екологична оценка, освен МОСВ, са и секторните министерства съобразно тяхната компет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8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69900"/>
                </a:solidFill>
                <a:latin typeface="Arial"/>
              </a:rPr>
              <a:t>ОПЕРАТИВНА ПРОГРАМА “ОКОЛНА СРЕДА 2007 – 2013 г.”</a:t>
            </a:r>
            <a:br>
              <a:rPr sz="2200"/>
            </a:br>
            <a:r>
              <a:rPr b="1" lang="en-US" sz="2200" spc="-1" strike="noStrike">
                <a:solidFill>
                  <a:srgbClr val="669900"/>
                </a:solidFill>
                <a:latin typeface="Arial"/>
              </a:rPr>
              <a:t>www.ope.moew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16360" y="4365720"/>
          <a:ext cx="5761080" cy="79200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лагодаря Ви за вниманиет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881440" cy="15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8209080" cy="765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372360" y="1989000"/>
            <a:ext cx="2232000" cy="158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201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ТПРАВНА ТОЧ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 изпълнение на чл. 8 от проекта на общ регламент всяка оперативна програма следва да има анализ на потенциала за изпълнение на изискванията за интегриране на политиките за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Съгласно чл. 87, пар. 7, всяка оперативна програма (без техническа помощ), където е релевантно, следва да включва описание на специфичните дейности които ще вземат предвид изискванията за опазване на околната среда, ресурсната ефективност, адаптирането към и справянето с изменението на климата, устойчивостта към природни бедствия, превенцията и управлението на риска при избора на операции за финансиране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”</a:t>
            </a:r>
            <a:r>
              <a:rPr b="0" lang="bg-BG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СНОВНИ ЕЛЕМЕНТИ НА НАСОКИ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Насоките обхващат следните основни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ъ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Архитектура на програмирането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 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Основни изисквания на регламентите з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Настояща ситуация и необходимост от нов подход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Инструменти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във фаз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ограмиране”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иложени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2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Инструменти за интегр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иране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н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във фондовете към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 Общата стратегическа рамк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ериода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2014 – 2020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256536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Анализ на състояни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Стратегическо план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Финансови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Екологична оце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Предварителни усло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0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АНАЛИЗ НА СЪСТОЯНИЕТ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В подкрепа на изпълнението на новите ангажименти, МОСВ (чрез вътрешноведомствена работна група) анализира и обобщи законодателните изисквания, приложими за политиките по околна среда и изменени на климата за периода след 2013 г. и разработи Насоките за интегрира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Проектът на Насоки бе представен на компетентните ведомства за коментари и предл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8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СТРАТЕГИЧЕСКО ПЛАНИРАНЕ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8893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оритетите и дейностите във всяка оперативна програма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следва да бъдат достатъчни и адекватни за изпълнение на изискванията за интегриране на политиките по околна среда и изменение на климата в 5-те фонда и да са съобразени с изискванията за тематична концентрация на фондовете от 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т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за финансиране от оперативните програми са представени в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ложение I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към насоките. Те са основен инструмент за изпълнение на изискванията за интегриране на тези политики. Включени са и разяснения за осигуряване на допълняемост между отделните про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6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водите за постигане на по-добър екологичен статус, по-висока ефективност ресурсите и справяне с последствията върху водите от изменението на клима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отпадъците, съобразно йерархията за управлението им и с оглед постигане на по - висока ефективност на този ресурс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енергийната ефективност и ВЕ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подобряване качеството на въздуха и намаляване емисиите на парникови газо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опазване и възстановяване на биологичното разнообразие, включително мрежата НАТУРА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укрепване на капацитет и за техническа помо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755640" y="83664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Приложение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: </a:t>
            </a: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Необходими интерв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07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ФИНАНСОВИ СРЕДСТВА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57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Изпълнението на политиките за околна среда и изменение на климата изисква планиране и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осигуряване на съществен финансов ресурс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Необходимо е, да се предприемат мерки за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бъдещо проследяване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на разходите (</a:t>
            </a:r>
            <a:r>
              <a:rPr b="1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tracking)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за енергийна ефективност, възобновяеми енергийни източници, изменение на климата и биоразнообразие (вкл. Натура 2000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8209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2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ЕКОЛОГИЧНА ОЦЕНКА</a:t>
            </a: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Европейската комисия разработи </a:t>
            </a:r>
            <a:r>
              <a:rPr b="1" lang="bg-BG" sz="2800" spc="-1" strike="noStrike" u="sng">
                <a:solidFill>
                  <a:srgbClr val="333399"/>
                </a:solidFill>
                <a:uFillTx/>
                <a:latin typeface="Times New Roman"/>
              </a:rPr>
              <a:t>Указания за предварителна оценка на ОП за периода 2014-2020 г.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юни 2012 г.), даващи допълнителни насоки по екологичната оценка на оперативните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пазването им при програмирането е гаранция за адекватното интегриране на политиките по околна среда и изменение на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46:28Z</dcterms:created>
  <dc:creator>user</dc:creator>
  <dc:description/>
  <dc:language>en-US</dc:language>
  <cp:lastModifiedBy>user_nec</cp:lastModifiedBy>
  <dcterms:modified xsi:type="dcterms:W3CDTF">2012-12-15T07:27:00Z</dcterms:modified>
  <cp:revision>222</cp:revision>
  <dc:subject/>
  <dc:title>Slide 1</dc:title>
</cp:coreProperties>
</file>